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72880" y="696960"/>
            <a:ext cx="4638600" cy="34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57480" y="881856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96757FC-9CB3-46EA-B601-938A226605A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3240" y="696960"/>
            <a:ext cx="4638600" cy="3479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1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Si uno quisiera resumir en pocas frases la esencia del modelo que estamos planteando, serían estos 3 concept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Este último es clave respecto de los requerimientos de fondos públicos. El Modelo que estamos plantenado es uno de securitización de los créditos otorgados a los jóvenes para recoger recursos del Mercado de Capitales. En régimen, este sistema debiera autosustentarse y no presionar al gasto fiscal como el sistema del Fondo Solidario. Se requiere un tiempo de maduración que es difícil de predecir, pues dependerá del mercado, pero por lo menos, unos 6 a 8 años, de capitalización por una parte y de consolidación en el mercado financiero, hasta convertirse en una real opción de inversiones a tasas razonables y con porcentajes de sobrecolateralización mínimos.Esquema parecido al de los recursos para préstamos hipotecari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4BFF-FF1D-49A2-99AA-A27C0269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D1E1-4E1E-46C1-823A-DCA03AE1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E343-00D4-440C-AECC-0A078D8BE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6111-91E4-4B80-91A2-092C977E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15AB-765E-4A24-B2EB-FEAEE2106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8650-8728-42C3-89AB-63565DAA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6736-A390-4341-A19E-20C0CED6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9B7D-BBE3-450C-AF99-23CC9B2D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6AE3-EBD5-4C0E-A021-AD2D665F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59DE-8719-4593-9634-00BB7DDE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6507-90F8-43AD-9F42-4380C927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38D6-49AF-4A4E-AC7C-23A95E9B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ED2C-3FEF-4DE5-A925-2BFBA3F7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EB20-D82C-4D9C-9470-9F50C845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911A-1889-4BCF-B22B-F1E4E098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5F56-5F25-4E40-84E4-C90461B9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4D19-33B7-43C5-BA23-CAD88E4EE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FB68-583C-4D8E-BBC8-C9CFD9A9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69A5-115F-4320-A30C-64BC3D3C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8CE6-1557-4C00-AAD9-988394A0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F96D-BA13-43AB-B827-A781742D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59C2-4E29-4ACF-8205-63371EEC4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B01-4611-4D8B-A0E8-971B11BE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0D64-64DF-4AD0-AF34-D02399CE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6661-2E08-417C-8C3F-328355BF0EE3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2B8F-3E79-4367-A949-93EB250DC2A6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1905120"/>
            <a:ext cx="779292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Reprogramación de Crédito Solid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solidaridad" descr=""/>
          <p:cNvPicPr/>
          <p:nvPr/>
        </p:nvPicPr>
        <p:blipFill>
          <a:blip r:embed="rId1"/>
          <a:stretch/>
        </p:blipFill>
        <p:spPr>
          <a:xfrm>
            <a:off x="380880" y="3505320"/>
            <a:ext cx="3886200" cy="3062160"/>
          </a:xfrm>
          <a:prstGeom prst="rect">
            <a:avLst/>
          </a:prstGeom>
          <a:ln w="0">
            <a:noFill/>
          </a:ln>
        </p:spPr>
      </p:pic>
      <p:pic>
        <p:nvPicPr>
          <p:cNvPr id="100" name="logo72" descr=""/>
          <p:cNvPicPr/>
          <p:nvPr/>
        </p:nvPicPr>
        <p:blipFill>
          <a:blip r:embed="rId2"/>
          <a:stretch/>
        </p:blipFill>
        <p:spPr>
          <a:xfrm>
            <a:off x="7391520" y="304920"/>
            <a:ext cx="144756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95440" y="304560"/>
            <a:ext cx="76485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Fundamentos del Proyecto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La recuperación en la actualidad alcanza a la cifra de 25.000 millones de pes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Tasa  promedio de recuperación del sistema bordea el 5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El sistema de crédito se basa en el principio de la solidaridad intergenerac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1.000 millones de pesos equivalen aproximadamente a 1.000 créditos nue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La ley vigente establece sanciones que impiden a los profesionales en mora una regularización de su crédi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99"/>
                </a:solidFill>
                <a:latin typeface="Tahoma"/>
              </a:rPr>
              <a:t>Objetivos del Proyect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man Old Style"/>
              </a:rPr>
              <a:t>Aumentar recuperación de créditos moros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man Old Style"/>
              </a:rPr>
              <a:t>Mantener el principio de la contingencia al ingreso: en ningún caso se paga más del 5% de la remuner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man Old Style"/>
              </a:rPr>
              <a:t>Establecer mecanismos más eficientes para el proceso de cobro de las deu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0720" y="60948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99"/>
                </a:solidFill>
                <a:latin typeface="Tahoma"/>
              </a:rPr>
              <a:t>Contenido del Proyecto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man Old Style"/>
              </a:rPr>
              <a:t>Programa  de reprogramación aplicable a deudores morosos al 31 de diciembre de 200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man Old Style"/>
              </a:rPr>
              <a:t>No considera condonación de intere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man Old Style"/>
              </a:rPr>
              <a:t>Establece un nuevo plazo de 10 años para el pag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Bookman Old Style"/>
              </a:rPr>
              <a:t>Se establece una cuota fija, sujeta a la contingencia del 5% de los ingresos de cada deudor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joven1" descr=""/>
          <p:cNvPicPr/>
          <p:nvPr/>
        </p:nvPicPr>
        <p:blipFill>
          <a:blip r:embed="rId1"/>
          <a:stretch/>
        </p:blipFill>
        <p:spPr>
          <a:xfrm>
            <a:off x="5791320" y="228600"/>
            <a:ext cx="2949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igue.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Incorpora mecanismos más eficientes para el cobro de las deud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Retención de la devolución de impuestos por la Tesorería General de la República para los profesionales que trabajan en forma independi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Descuento automático de las remuneraciones del deudor para los profesionales dependien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joven1" descr=""/>
          <p:cNvPicPr/>
          <p:nvPr/>
        </p:nvPicPr>
        <p:blipFill>
          <a:blip r:embed="rId1"/>
          <a:stretch/>
        </p:blipFill>
        <p:spPr>
          <a:xfrm>
            <a:off x="380880" y="4648320"/>
            <a:ext cx="2949840" cy="18288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46280" y="2262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0080" y="2209680"/>
            <a:ext cx="8510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Financiamiento de Estudios Superi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en instituciones autónom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ahoma"/>
              </a:rPr>
              <a:t>y acreditada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logo72" descr=""/>
          <p:cNvPicPr/>
          <p:nvPr/>
        </p:nvPicPr>
        <p:blipFill>
          <a:blip r:embed="rId2"/>
          <a:stretch/>
        </p:blipFill>
        <p:spPr>
          <a:xfrm>
            <a:off x="7391520" y="304920"/>
            <a:ext cx="1447560" cy="13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49280" y="456840"/>
            <a:ext cx="7794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Verdana"/>
              </a:rPr>
              <a:t>Acceso al Crédito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812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poyo a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jóvenes y sus padres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 o terceros para seguir estudios de educación super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Beneficia directamente a la clase media y sectores más modestos de la población que teniendo </a:t>
            </a:r>
            <a:r>
              <a:rPr b="1" lang="es-CL" sz="2400" spc="-1" strike="noStrike">
                <a:solidFill>
                  <a:srgbClr val="000000"/>
                </a:solidFill>
                <a:latin typeface="Verdana"/>
              </a:rPr>
              <a:t>méritos académicos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, no cuentan con recursos para estudi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s un esfuerzo entre el Estado y las instituciones de educación superior de los tres niveles: Universidades, Institutos Profesionales y Centros de Formación Técn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Financiamiento mixto: Estado financia la formación de un fondo de créditos que años después, se invierten en el mercado de capitales para realimentar 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49280" y="-36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Verdana"/>
              </a:rPr>
              <a:t>Características de los créditos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creará una institucionalidad mixta que permita entregar créditos a estudiantes o sus pad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 garantías estat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 garantías de las casas de est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 garantías de los propios beneficiarios (compromisos de pag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in a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réditos de largo plazo que se empiezan a pagar un año después del egre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tarán con seguro cesantía, invalidez y desgravame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Topes de crédito por año via Arancel de Referencia y límites al número de años que pueden endeuda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533160"/>
            <a:ext cx="7794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99"/>
                </a:solidFill>
                <a:latin typeface="Verdana"/>
              </a:rPr>
              <a:t>Los Planes de Ahorro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88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Objetivo: apoyar a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estudiantes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 y familias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que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ahorren para financiar el primer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año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, premiándolos con igual tasa de interés o más, con un tope de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810 mil pesos (50 UF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Exige: Ahorro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durante un mínimo de dos año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al menos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un milló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300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 mil pesos (80 UF) para estudios universitarios o profesional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y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650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mil pesos (40 UF) para estudios técnicos de nivel superior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Premio: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 150% de la tasa de interés real para familia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con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 ingresos inferiores a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un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millón de pesos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(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63 UF) y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00% de la tasa de interés real para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familias con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ingresos entre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un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millón y un milló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Tahoma"/>
              </a:rPr>
              <a:t>500 mil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ahoma"/>
              </a:rPr>
              <a:t>pesos (entre 63 y 93 UF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10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ahoma"/>
              </a:rPr>
              <a:t>Ejemplo: si la tasa de interés fue en promedio 5%, el primer tramo obtendrá por esos fondos ahorrados un 12.5% de interés y el segundo tramo un 10% de interé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just">
              <a:lnSpc>
                <a:spcPct val="10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19:25:02Z</dcterms:created>
  <dc:creator>MINEDUC </dc:creator>
  <dc:description/>
  <dc:language>en-US</dc:language>
  <cp:lastModifiedBy>CEI</cp:lastModifiedBy>
  <dcterms:modified xsi:type="dcterms:W3CDTF">2002-05-31T01:09:06Z</dcterms:modified>
  <cp:revision>27</cp:revision>
  <dc:subject/>
  <dc:title>Reforma de la Educación Superior</dc:title>
</cp:coreProperties>
</file>